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9B9-DFD1-4F23-A0C1-8445717F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2A9-F7C2-4BFC-B66F-96C58C7A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537-F7CD-4232-AAEA-F28AAB1E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69A-AA42-48FD-8C30-0CA1F7E1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40D4-39BA-4EC2-9112-DFDDA884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1C11-7926-41BC-8537-CB4B9EEC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99A8-DE23-476A-91CD-51243DB0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A5BE-8EC2-47F3-9DE0-A67A54C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87D0-30B4-477A-B99E-DAB676C1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4FBB-D112-42F5-A796-1D3F4F5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D973-3ECC-446C-81CD-3EBD6B0C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D49-B10A-44BA-844B-F8CF2EAA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DCDC-D620-4DAF-A597-D079A0E0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1CE6-5F64-4193-BEE5-A96C423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0BF2-9150-4B31-B20A-E7AC06C0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F189-E9A5-4F14-B4A6-23957F1E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F872-AA51-4493-AAF7-8DD997F6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9F2-0733-4F44-8C37-C80846AA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0DC-ECDA-48E7-8473-6C361BDD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2E3-4175-4CE3-BA4B-81B2A4AC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39F-6D40-4D5E-A5FF-9A7C91D7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779-261F-4E56-AC51-BF96D7EA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DFE-8412-45A0-96D3-72AF0F3C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18D-AECB-4C76-B4CB-766BA48C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75AC-C329-47DD-95DE-282F303A3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615A-4D9E-4421-88BE-017022E83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 Assess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ical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to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with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the connection between the Analysis and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ed length 20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d out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ly formatted bibl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word count on front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sources (my requir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art of word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d out of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ing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 p. 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ime to teach research skills (Prep cour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 footnoting early and continually reinforc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connections with local librarie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 of the Histor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 latitude in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has not 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ight and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 HL and 25% 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Hours which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ime to work on 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class time to work on 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ound by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chools of th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increase efficiency of exam preparation (choose a topic that you stu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s an opportunity to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lore something you don’t study in class, but interests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opic VERY n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yce’s ‘Ivy Day  in the Committee Room’ and Parnell’s Fal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roque Style as Catholic Propagand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mmer of Love: Not So Love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ner and the Naz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of Inves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ed a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- “What” is being stu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 - “How” is it being stu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 to be evalu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ed Length 100-15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d out of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 of Eviden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/facts or information that was discovered by the candi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prose or poin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ions left to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ength 500-600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out of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referenced (not part of word c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thematically or chrono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of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2 sources (primary or second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, purpose, values and limitations (OPV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secondary source, evaluation of the author’s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important to the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ce to the investigation of the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ength 400-500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out of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“Evidence” to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e of topic in context - first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ppropriate different interpre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troduce new evidence - deal only with that which was in the Summary of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inks with Sectio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nnections with section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ength 500-600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out of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4:12:07Z</dcterms:created>
  <dc:creator>David Smith User</dc:creator>
  <dc:description/>
  <dc:language>en-US</dc:language>
  <cp:lastModifiedBy>smithdm</cp:lastModifiedBy>
  <dcterms:modified xsi:type="dcterms:W3CDTF">2008-04-29T15:08:06Z</dcterms:modified>
  <cp:revision>32</cp:revision>
  <dc:subject/>
  <dc:title>Internal Assessment  </dc:title>
</cp:coreProperties>
</file>